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CF20-BF9E-4A63-B6D8-E209520102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 7 du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up Homework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est will b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 7 due to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 up Homework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xt test will be next we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(“Radioactivity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-2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ium-2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(“Radioactivity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of a larg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of a large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ton Canyon Complex:                   1.8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earth rocks:  about 4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moon rocks: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eorites: 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interesting pattern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teresting pattern . 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of a cloud of gas and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ifugal effect gathers material into a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test this the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im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other examp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Nebul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test this theo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formation in the Orion Neb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 formation in the Orion Neb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olar System and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October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Solar System and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est:  Look for other sol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rther test:  Look for other solar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100 extrasolar planets discovered in last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are massive:  comparable to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100 extrasolar planets discovered in last 12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solar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rasolar pla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 tune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” telescope, 200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b” telescope, 2013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 tuned!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solar system (and a crash course in nuclear phys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ound other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ed rocks imply an age of at least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ear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Thomson, Lord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yered rocks imply an age of at least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an actual number, we need nuclea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7BCF-F096-492A-A031-3302032F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9F2D-7B4F-4763-9940-EDFC6154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F4D8-5766-426C-B1F7-FE4BFC14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A09-8E83-474B-8A52-C1333624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6FC-7A2A-49B1-83F3-346F2F08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BC99-3237-4FC3-991A-DFBCDC4B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03D-E4E2-4662-981C-4237D9F3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EEDF-C73E-45B2-A268-35448A32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BF2-1F7B-4D8E-A484-DC45941F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B11-21FE-4076-A9F8-6ED47BB2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35BA-D3D8-4B2A-8704-17105E5B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D64D-C4A6-4A91-99A9-1A8F608E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0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2CC0-CBB4-44AB-8672-10CFC22E66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2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120" y="2342880"/>
            <a:ext cx="6550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7 due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Homework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est will be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(“Radioactivity”)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8600" y="1447560"/>
            <a:ext cx="79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419200" y="55785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311560" y="56674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216160" y="54324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237492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244476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4016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2063880" y="5457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152800" y="5667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1962000" y="58132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2228760" y="57625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457360" y="5845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49552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2305080" y="53308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201312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1994040" y="5546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4"/>
          <p:cNvSpPr/>
          <p:nvPr/>
        </p:nvSpPr>
        <p:spPr>
          <a:xfrm>
            <a:off x="2158920" y="53182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603520" y="5527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2158920" y="5559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2476440" y="5318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2343240" y="5826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256536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1873080" y="56358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1"/>
          <p:cNvSpPr/>
          <p:nvPr/>
        </p:nvSpPr>
        <p:spPr>
          <a:xfrm>
            <a:off x="2101680" y="58006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2070000" y="593424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2209680" y="58831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2013120" y="52927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192420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6"/>
          <p:cNvSpPr/>
          <p:nvPr/>
        </p:nvSpPr>
        <p:spPr>
          <a:xfrm>
            <a:off x="2381400" y="5241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241720" y="5210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1828800" y="5502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1873080" y="5318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82880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1943280" y="595296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2"/>
          <p:cNvSpPr/>
          <p:nvPr/>
        </p:nvSpPr>
        <p:spPr>
          <a:xfrm>
            <a:off x="2362320" y="59529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1752480" y="5629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4"/>
          <p:cNvSpPr/>
          <p:nvPr/>
        </p:nvSpPr>
        <p:spPr>
          <a:xfrm>
            <a:off x="2577960" y="58896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5"/>
          <p:cNvSpPr/>
          <p:nvPr/>
        </p:nvSpPr>
        <p:spPr>
          <a:xfrm>
            <a:off x="2463840" y="59976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2273400" y="60166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2139840" y="60548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7692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010120" y="55785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4902120" y="5667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4813200" y="540072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52"/>
          <p:cNvSpPr/>
          <p:nvPr/>
        </p:nvSpPr>
        <p:spPr>
          <a:xfrm>
            <a:off x="4965840" y="5432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503568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5149800" y="5622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468000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476244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7"/>
          <p:cNvSpPr/>
          <p:nvPr/>
        </p:nvSpPr>
        <p:spPr>
          <a:xfrm>
            <a:off x="4565520" y="58006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8"/>
          <p:cNvSpPr/>
          <p:nvPr/>
        </p:nvSpPr>
        <p:spPr>
          <a:xfrm>
            <a:off x="4851360" y="5794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5079960" y="5857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6494400" y="57261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4908600" y="5299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4635360" y="568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4584600" y="55468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4749840" y="5311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589800" y="56498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4737240" y="55530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5067360" y="535608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4965840" y="58453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15628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4495680" y="56545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71"/>
          <p:cNvSpPr/>
          <p:nvPr/>
        </p:nvSpPr>
        <p:spPr>
          <a:xfrm>
            <a:off x="4705200" y="58197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72"/>
          <p:cNvSpPr/>
          <p:nvPr/>
        </p:nvSpPr>
        <p:spPr>
          <a:xfrm>
            <a:off x="4667400" y="5934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73"/>
          <p:cNvSpPr/>
          <p:nvPr/>
        </p:nvSpPr>
        <p:spPr>
          <a:xfrm>
            <a:off x="4832280" y="590220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4622760" y="5330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5"/>
          <p:cNvSpPr/>
          <p:nvPr/>
        </p:nvSpPr>
        <p:spPr>
          <a:xfrm>
            <a:off x="4514760" y="54198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6"/>
          <p:cNvSpPr/>
          <p:nvPr/>
        </p:nvSpPr>
        <p:spPr>
          <a:xfrm>
            <a:off x="5010120" y="5248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7"/>
          <p:cNvSpPr/>
          <p:nvPr/>
        </p:nvSpPr>
        <p:spPr>
          <a:xfrm>
            <a:off x="4800600" y="519732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78"/>
          <p:cNvSpPr/>
          <p:nvPr/>
        </p:nvSpPr>
        <p:spPr>
          <a:xfrm>
            <a:off x="4438800" y="551484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79"/>
          <p:cNvSpPr/>
          <p:nvPr/>
        </p:nvSpPr>
        <p:spPr>
          <a:xfrm>
            <a:off x="4476600" y="52927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80"/>
          <p:cNvSpPr/>
          <p:nvPr/>
        </p:nvSpPr>
        <p:spPr>
          <a:xfrm>
            <a:off x="441972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1"/>
          <p:cNvSpPr/>
          <p:nvPr/>
        </p:nvSpPr>
        <p:spPr>
          <a:xfrm>
            <a:off x="4527720" y="59277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4978440" y="59720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83"/>
          <p:cNvSpPr/>
          <p:nvPr/>
        </p:nvSpPr>
        <p:spPr>
          <a:xfrm>
            <a:off x="434988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4"/>
          <p:cNvSpPr/>
          <p:nvPr/>
        </p:nvSpPr>
        <p:spPr>
          <a:xfrm>
            <a:off x="5099040" y="54896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5"/>
          <p:cNvSpPr/>
          <p:nvPr/>
        </p:nvSpPr>
        <p:spPr>
          <a:xfrm>
            <a:off x="6405480" y="563076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86"/>
          <p:cNvSpPr/>
          <p:nvPr/>
        </p:nvSpPr>
        <p:spPr>
          <a:xfrm>
            <a:off x="4762440" y="60040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87"/>
          <p:cNvSpPr/>
          <p:nvPr/>
        </p:nvSpPr>
        <p:spPr>
          <a:xfrm>
            <a:off x="6507000" y="5541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8"/>
          <p:cNvSpPr/>
          <p:nvPr/>
        </p:nvSpPr>
        <p:spPr>
          <a:xfrm>
            <a:off x="3030480" y="567864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5659560" y="54626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1433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022640" y="621036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6005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of a large samp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175" name="Picture 5" descr="&#13;halflife1.gif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781280" y="1360440"/>
            <a:ext cx="5661000" cy="475632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ing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8600" y="2280960"/>
            <a:ext cx="79455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025640" y="128736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7880" y="1736280"/>
            <a:ext cx="34099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_x0011_ThurstonRidge.jpg                                              0000BE59_x0008_OS9 disk                       B98E62DA:"/>
          <p:cNvPicPr/>
          <p:nvPr/>
        </p:nvPicPr>
        <p:blipFill>
          <a:blip r:embed="rId1"/>
          <a:srcRect l="0" t="32329" r="0" b="14548"/>
          <a:stretch/>
        </p:blipFill>
        <p:spPr>
          <a:xfrm>
            <a:off x="4035600" y="1527120"/>
            <a:ext cx="2263680" cy="160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_x001a_earth_nearly_full-NASA.jpg                                     0000CDBA_x0008_OS9 disk                       B98E62DA:"/>
          <p:cNvPicPr/>
          <p:nvPr/>
        </p:nvPicPr>
        <p:blipFill>
          <a:blip r:embed="rId2"/>
          <a:stretch/>
        </p:blipFill>
        <p:spPr>
          <a:xfrm>
            <a:off x="6407280" y="2651040"/>
            <a:ext cx="2482560" cy="181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_x0008_moon.jpg                                                       0000CDBA_x0008_OS9 disk                       B98E62DA:"/>
          <p:cNvPicPr/>
          <p:nvPr/>
        </p:nvPicPr>
        <p:blipFill>
          <a:blip r:embed="rId3"/>
          <a:stretch/>
        </p:blipFill>
        <p:spPr>
          <a:xfrm>
            <a:off x="4414680" y="3873600"/>
            <a:ext cx="1567080" cy="171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_x0008_0826.jpg                                                       0000D64D_x0008_OS9 disk                       B98E62DA:"/>
          <p:cNvPicPr/>
          <p:nvPr/>
        </p:nvPicPr>
        <p:blipFill>
          <a:blip r:embed="rId4">
            <a:lum contrast="36000"/>
          </a:blip>
          <a:srcRect l="0" t="0" r="0" b="5906"/>
          <a:stretch/>
        </p:blipFill>
        <p:spPr>
          <a:xfrm>
            <a:off x="6391440" y="4883040"/>
            <a:ext cx="2533320" cy="18162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other interesting pattern . . .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7520" y="1736280"/>
            <a:ext cx="8363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8080" y="1569600"/>
            <a:ext cx="3760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_x001f_formation_solar_system#DA00.jpg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4367160" y="1344600"/>
            <a:ext cx="4546800" cy="52084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can we test this theory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3560" y="1496520"/>
            <a:ext cx="461304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_x0013_EagleNebulaFull.jpg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87280" y="3281400"/>
            <a:ext cx="2332080" cy="275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_x0014_eagle-neb-Hubble.jpg    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55800" y="3173400"/>
            <a:ext cx="2851200" cy="281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_x0016_EagleHubbleCloseup.jpg    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5748480" y="3417840"/>
            <a:ext cx="31240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3157560" y="613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380520"/>
            <a:ext cx="7991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r formation in the Orion Nebula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06" name="Picture 9" descr="_x0015_orion_spinelli_c1.jpg                                          0000D9E3_x0008_OS9 disk                       B98E62DA:"/>
          <p:cNvPicPr/>
          <p:nvPr/>
        </p:nvPicPr>
        <p:blipFill>
          <a:blip r:embed="rId1"/>
          <a:srcRect l="17960" t="0" r="21217" b="0"/>
          <a:stretch/>
        </p:blipFill>
        <p:spPr>
          <a:xfrm>
            <a:off x="304920" y="2055960"/>
            <a:ext cx="2340000" cy="32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_x0018_orionNeb2_gendler_c1.jpg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66960" y="1749600"/>
            <a:ext cx="3765600" cy="398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_x001a_OrionProtostarPhotoHST.jpg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6683400" y="2941560"/>
            <a:ext cx="208260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5520" y="2185560"/>
            <a:ext cx="7915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35520" y="1359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38760"/>
            <a:ext cx="79106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Solar System and Other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_x0014_eagle-neb-Hubble.jpg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970360" y="558720"/>
            <a:ext cx="314784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1520" y="398160"/>
            <a:ext cx="8226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Further test:  Look for other solar systems</a:t>
            </a:r>
            <a:endParaRPr b="0" lang="en-US" sz="32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Other stars are so far away that planets are in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_x000f_SunSpectrum.jpg                                                0000D9E3_x0008_OS9 disk                       B98E62DA:"/>
          <p:cNvPicPr/>
          <p:nvPr/>
        </p:nvPicPr>
        <p:blipFill>
          <a:blip r:embed="rId1"/>
          <a:srcRect l="0" t="9837" r="0" b="5320"/>
          <a:stretch/>
        </p:blipFill>
        <p:spPr>
          <a:xfrm>
            <a:off x="4657680" y="3483000"/>
            <a:ext cx="3584520" cy="202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_x0008_0906.jpg                                                       0000DA0D_x0008_OS9 disk                       B98E62DA:"/>
          <p:cNvPicPr/>
          <p:nvPr/>
        </p:nvPicPr>
        <p:blipFill>
          <a:blip r:embed="rId2"/>
          <a:srcRect l="0" t="0" r="0" b="5791"/>
          <a:stretch/>
        </p:blipFill>
        <p:spPr>
          <a:xfrm>
            <a:off x="1062000" y="3430440"/>
            <a:ext cx="3314880" cy="20336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uccess!  </a:t>
            </a:r>
            <a:br>
              <a:rPr sz="40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&gt;100 extrasolar planets discovered in last 12 years</a:t>
            </a:r>
            <a:endParaRPr b="0" lang="en-US" sz="2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88600" y="1960200"/>
            <a:ext cx="7916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mu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ir stars than Jupiter.  How is this possible?  Our theory predicts that giant planets should be farther ou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1520" y="32364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trasolar planet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26" name="Picture 3" descr="_x0008_09CO.jpg                                                       0000DA0D_x0008_OS9 disk                       B98E62DA:"/>
          <p:cNvPicPr/>
          <p:nvPr/>
        </p:nvPicPr>
        <p:blipFill>
          <a:blip r:embed="rId1"/>
          <a:stretch/>
        </p:blipFill>
        <p:spPr>
          <a:xfrm>
            <a:off x="2535120" y="1122480"/>
            <a:ext cx="4102200" cy="554976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y tuned!  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79360" y="17049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_x001b_JamesWebbSpaceTelescope.jpg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5016600" y="2928960"/>
            <a:ext cx="3663720" cy="313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_x001a_kepler_mission_drawing.jpg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417600" y="2909880"/>
            <a:ext cx="4151160" cy="3252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4296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2912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0440" y="2079360"/>
            <a:ext cx="7367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8960" y="2064960"/>
            <a:ext cx="4587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ed rocks imply an ag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llions of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_x0010_Grand Canyon.jpg                                               0000CDBA_x0008_OS9 disk                       B98E62DA:"/>
          <p:cNvPicPr/>
          <p:nvPr/>
        </p:nvPicPr>
        <p:blipFill>
          <a:blip r:embed="rId1"/>
          <a:stretch/>
        </p:blipFill>
        <p:spPr>
          <a:xfrm>
            <a:off x="5329080" y="1387440"/>
            <a:ext cx="310212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70080" y="137160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_x000e_LordKelvin.jpg                                                 0000D9E3_x0008_OS9 disk                       B98E62DA:"/>
          <p:cNvPicPr/>
          <p:nvPr/>
        </p:nvPicPr>
        <p:blipFill>
          <a:blip r:embed="rId2"/>
          <a:srcRect l="0" t="0" r="0" b="14387"/>
          <a:stretch/>
        </p:blipFill>
        <p:spPr>
          <a:xfrm>
            <a:off x="5943600" y="4175280"/>
            <a:ext cx="1962000" cy="21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56080" y="639612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69" name="Picture 9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940040" y="1976400"/>
            <a:ext cx="531792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089000" y="1325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Periodic Tab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_x0011_PeriodicTable.gif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750960" y="1390680"/>
            <a:ext cx="7632720" cy="413388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78" name="Picture 3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122560" y="2249640"/>
            <a:ext cx="4881600" cy="305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53920" y="13255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09560" y="57150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01800" y="5424480"/>
            <a:ext cx="76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_x000c_nucchrt2.gif 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806480" y="1343160"/>
            <a:ext cx="5553000" cy="38653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06:36Z</dcterms:created>
  <dc:creator>WSU</dc:creator>
  <dc:description/>
  <dc:language>en-US</dc:language>
  <cp:lastModifiedBy>Legion</cp:lastModifiedBy>
  <dcterms:modified xsi:type="dcterms:W3CDTF">2017-01-26T10:22:12Z</dcterms:modified>
  <cp:revision>146</cp:revision>
  <dc:subject/>
  <dc:title>Introduction to Astronomy</dc:title>
</cp:coreProperties>
</file>